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92E8-6E83-4BD6-BECD-9EB5D3CE92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you listen to the conversation, pay special attention to teacher decisions and write notes down about why they make those decis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note taking sheet? Note boo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44BC-DAD2-4D93-9960-1D156C0CC1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part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B2CD-BF85-4D23-9D7F-93ACC6FB2B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756B-8555-4A4E-8DC2-53B7AD23CBF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l them the design templ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 times 100 ru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1505-4B94-476F-AA63-FECA35859F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8ECE-DBF8-40DA-950A-602CA3A3E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8BD2-C19B-47E0-BE89-8B40B08A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B9A0-DD75-4C27-A998-C8E5B7E69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D9C3-76C1-4371-928B-DBB02485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0F24-2A43-4F40-9340-8C89381F8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612D-492A-4737-8EA5-5732E976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34E1-7151-44F9-B70B-CE5FC317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E004-8177-41CD-8B58-A29690D2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117B-4B09-4299-BCE0-C77DA16E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9466-1517-4BD4-83A1-0385F9D3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4F99-C25A-4749-A4D6-0BF8ED13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5697-8319-4A42-B12D-78FD548F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D35E-279B-485D-8CDA-B2D026DC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A6F6-9ECE-48C3-9316-5074AD09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A0E4-6564-4C57-8FA3-B5915891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DA18-533B-40E9-BDD8-0D7990E7F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ECDB-25DE-4046-A0AF-E0FEAB52C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88C1A-2E82-419D-AF26-747BDE8CF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95095-B221-4220-B915-231FE73A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5FBF1-C353-4210-973F-19D00F9F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8F787-0CFB-445A-8F64-D882DBF3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0EBB1-0B7F-4ACF-A283-5CAD235B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5268-ADB3-48DA-BD17-3356186B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6498D-46AB-407A-9416-16D1F586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31F5B-57A1-4AD3-A4FB-9BF0D7B8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ED984-9027-42C3-9B7A-62CE694C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94078-1C9F-4AA9-BD24-BD45FBAA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09E92-A592-43D8-8F84-622B1989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4B36D-CFF6-4F03-81EB-CC29177CE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15EE6-C861-4083-AFED-5B1A3DD4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B8FE7-A4D3-4F6B-B6AC-5B6584D2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26E54-9BD3-460C-9DF1-8CD5897F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CDE87-83D5-4111-8185-817C69CC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BC86-3466-474B-8F7B-F544F3BD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D6562-6551-4204-981F-223BA6CF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87110-0A4F-4496-A0C9-A4CBA6E3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9335C-9F04-4927-9409-6BAD11DE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E279E-A9F2-4E30-B1F4-3569B98C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ECD6A-00B2-44FB-A6C4-DC4A3766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50C60-C141-4B8A-83B8-714ACF9F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376C8-D70F-4996-9960-178FC8E3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D989F-FB3B-47A8-9508-54F3D4DE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34E90-D34B-43BF-9EE0-7EFADEABF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B6070-78FB-4B6D-A381-013CB1B7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972A-6B9C-45DC-AD77-4A1CEE96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BC623-61F3-436D-A510-D3EF68CB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B08E7-A798-4766-B6B5-7C8505DB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0AD6B-B899-4F85-A707-F8A46F7C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1DC5E-CBF2-4EE1-A8A9-44D4E4A9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33ECB-FE37-4A4C-90D4-C974708C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F3A55-2261-425A-835A-766348D4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2A0AC-4E1C-46F1-AD4D-C6826AA7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97D85-1EEE-4420-B046-5CEA0A9D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7F9FF-947F-4861-97DE-21847EF4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57339-A1E1-4475-8F4C-3F9EC316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69E1-B7D7-4AF6-8F9E-119BD6F5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4911C-5409-4850-8BFA-6D262ED29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4C9F4-10D8-4051-AE52-B0C6AF38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F2D1A-60A1-4DEC-8AA4-3C96E28E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10C99-6FF5-4594-A494-E8302CEC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E36B6-DA39-4397-99C7-BEBC246E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38E03-3107-4984-9877-68C5F10E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8796F-5A72-4EAA-BF35-7C45AA38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89BB9-A034-45D5-A236-9CA6A911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1B4ED-95A8-4F32-AB3F-04C4044F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66593-EB02-461E-A2C3-89CB2DB0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F887-7039-468B-B512-C320317A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8EA2A-5252-412F-A05C-C68532C8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DEE7B-1691-4292-8B96-CD473C2B3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430CB-EF59-4BF7-9AA3-839F110CC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10715-0241-4087-9F14-5E02B12F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F5256-66C0-4EE3-88B5-9ED6743D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9DEB8-8D4E-4DBE-BC2A-19B56E51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EA3A1-72A8-4BB8-BD37-6BB50BC3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92770-8764-4847-805E-97ED58DC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26825-98B0-4148-A043-4568698B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8341F-6816-4B2F-AED0-98CC6DAA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B392-3F38-4AC8-9C15-8CB3D4A5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18C21-3D95-4283-B0E5-C599BB14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5E50C-04D9-4869-8C65-DA321EF9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42F8F-0AD2-48E9-9FC7-B7013AE0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25CF9-6B04-4FC4-8B10-BE950937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A6EA4-C1DC-4223-A691-DE82E0FE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A35A-7D4A-4BC3-B921-46524AA6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cfbf8">
              <a:alpha val="33000"/>
            </a:srgbClr>
          </a:solidFill>
          <a:ln cap="rnd" w="3240">
            <a:solidFill>
              <a:srgbClr val="ccc6b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bf6ea"/>
            </a:solidFill>
            <a:miter/>
          </a:ln>
          <a:effectLst>
            <a:outerShdw dist="12600" dir="5400000" blurRad="0" rotWithShape="0">
              <a:srgbClr val="ada99f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95625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06B9-FBF0-4F62-9DDB-D6E2256C9687}" type="slidenum"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16e6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cfbf8">
              <a:alpha val="33000"/>
            </a:srgbClr>
          </a:solidFill>
          <a:ln cap="rnd" w="3240">
            <a:solidFill>
              <a:srgbClr val="ccc6b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bf6ea"/>
            </a:solidFill>
            <a:miter/>
          </a:ln>
          <a:effectLst>
            <a:outerShdw dist="12600" dir="5400000" blurRad="0" rotWithShape="0">
              <a:srgbClr val="ada99f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16e6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a3e1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95625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DE8C-D967-4645-BB3B-808AD0FBEC7A}" type="slidenum"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16e6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a3e1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95625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A7A0-61B8-441C-8043-B5537F6B4292}" type="slidenum"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95625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3240-73B8-4384-A7CB-157821F9DC87}" type="slidenum"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16e6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95625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12DA-4E61-4DBF-A871-E915489027E9}" type="slidenum"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95625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6EB8-2D26-47F2-9CD7-08ECA110106A}" type="slidenum"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5ddc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9e5dc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95625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1DE0-7DF7-4C16-B5CB-BAED1256959A}" type="slidenum"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curriculum.prairiepride.org/Curriculum/MapPage.aspx?overviewID=1406&amp;OverviewTitle=8th%20grade%20language%20arts&amp;Designers=wanderson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ccsdnewteacher2009-10.wikispaces.com/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New Teacher Learning 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b3636"/>
                </a:solidFill>
                <a:latin typeface="Gill Sans MT"/>
              </a:rPr>
              <a:t>12/7/09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7" name="Picture 4" descr="C:\Users\ychen\AppData\Local\Microsoft\Windows\Temporary Internet Files\Content.IE5\60M1IPZ6\MPj04433150000[1].jpg"/>
          <p:cNvPicPr/>
          <p:nvPr/>
        </p:nvPicPr>
        <p:blipFill>
          <a:blip r:embed="rId1"/>
          <a:stretch/>
        </p:blipFill>
        <p:spPr>
          <a:xfrm>
            <a:off x="2666880" y="2362320"/>
            <a:ext cx="5034240" cy="3349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Research Background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dependently read and highlight (10-12 minute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rite a summary using the Write Tool 101 strategy (15 minute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 ready to share (Will sample by  calling  group #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Not by default, but by design…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82480" y="1847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8" name="Picture 2" descr="C:\Users\ychen\AppData\Local\Microsoft\Windows\Temporary Internet Files\Content.IE5\8DYO9J6P\MPj04393320000[1].jpg"/>
          <p:cNvPicPr/>
          <p:nvPr/>
        </p:nvPicPr>
        <p:blipFill>
          <a:blip r:embed="rId1"/>
          <a:stretch/>
        </p:blipFill>
        <p:spPr>
          <a:xfrm>
            <a:off x="1447920" y="1905120"/>
            <a:ext cx="6400800" cy="4114800"/>
          </a:xfrm>
          <a:prstGeom prst="rect">
            <a:avLst/>
          </a:prstGeom>
          <a:ln w="0">
            <a:noFill/>
          </a:ln>
        </p:spPr>
      </p:pic>
      <p:sp>
        <p:nvSpPr>
          <p:cNvPr id="349" name="TextBox 5"/>
          <p:cNvSpPr/>
          <p:nvPr/>
        </p:nvSpPr>
        <p:spPr>
          <a:xfrm>
            <a:off x="1752480" y="2590920"/>
            <a:ext cx="5562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Gill Sans MT"/>
              </a:rPr>
              <a:t>Double entry journal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Gill Sans MT"/>
              </a:rPr>
              <a:t>What did she decide to do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Gill Sans MT"/>
              </a:rPr>
              <a:t>What was she think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2012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6a6363"/>
                </a:solidFill>
                <a:latin typeface="Arial"/>
              </a:rPr>
              <a:t>Understanding By Design:</a:t>
            </a:r>
            <a:br>
              <a:rPr sz="4900"/>
            </a:br>
            <a:r>
              <a:rPr b="0" lang="en-US" sz="4900" spc="-1" strike="noStrike">
                <a:solidFill>
                  <a:srgbClr val="6a6363"/>
                </a:solidFill>
                <a:latin typeface="Arial"/>
              </a:rPr>
              <a:t>Interview Wendy</a:t>
            </a:r>
            <a:endParaRPr b="0" lang="en-US" sz="49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837720" y="2819160"/>
            <a:ext cx="4038840" cy="32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Think/Why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648320" y="2819160"/>
            <a:ext cx="4038480" cy="32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Decision/Do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Captured in the maps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Gill Sans MT"/>
                <a:hlinkClick r:id="rId1"/>
              </a:rPr>
              <a:t>Wendy’s Ma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Table Collaboration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ssign rol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#1: Evidence of essential understanding/ques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#2: Evidence of high level assessment/learn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#3: Evidence of scaffolding toward final performa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#4: Evidence of active cognitive engagement among stud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Table Collaboration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are and contrast Wendy’s lesson and your research summa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hart on paper using a graphic organiz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 ready to shar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(All member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Guided Practice</a:t>
            </a:r>
            <a:br>
              <a:rPr sz="4300"/>
            </a:br>
            <a:r>
              <a:rPr b="0" lang="en-US" sz="3600" spc="-1" strike="noStrike">
                <a:solidFill>
                  <a:srgbClr val="6a6363"/>
                </a:solidFill>
                <a:latin typeface="Gill Sans MT"/>
              </a:rPr>
              <a:t>Keeping the model lesson and </a:t>
            </a:r>
            <a:br>
              <a:rPr sz="3600"/>
            </a:br>
            <a:r>
              <a:rPr b="0" lang="en-US" sz="3600" spc="-1" strike="noStrike">
                <a:solidFill>
                  <a:srgbClr val="6a6363"/>
                </a:solidFill>
                <a:latin typeface="Gill Sans MT"/>
              </a:rPr>
              <a:t>research in mind…</a:t>
            </a:r>
            <a:endParaRPr b="0" lang="en-US" sz="36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2514600"/>
            <a:ext cx="74995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o to Iowa Core –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ill Sans MT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Century Learn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dministrators coach one or two group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pen up individual map and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rite at least 1-2 essential ques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rite at least 2-5 expanded skil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ake a 10 minutes break. Demo starts at 2:20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Live Demo – Wendy Anderson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lesson template to recor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ake a moment to write notes on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vidence of communicating learning targets to stud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vidence of interactive strategies including CFU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th students and teach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th cont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are with a partn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C:\Users\ychen\AppData\Local\Microsoft\Windows\Temporary Internet Files\Content.IE5\WRY5J6MP\MPj04090090000[1].jpg"/>
          <p:cNvPicPr/>
          <p:nvPr/>
        </p:nvPicPr>
        <p:blipFill>
          <a:blip r:embed="rId1"/>
          <a:stretch/>
        </p:blipFill>
        <p:spPr>
          <a:xfrm>
            <a:off x="-190440" y="-2513160"/>
            <a:ext cx="9334440" cy="93711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Gill Sans MT"/>
              </a:rPr>
              <a:t>        </a:t>
            </a:r>
            <a:r>
              <a:rPr b="0" lang="en-US" sz="4300" spc="-1" strike="noStrike">
                <a:solidFill>
                  <a:srgbClr val="ffff00"/>
                </a:solidFill>
                <a:latin typeface="Gill Sans MT"/>
              </a:rPr>
              <a:t>Line of Learning 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09120" y="1523520"/>
            <a:ext cx="786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ill Sans MT"/>
              </a:rPr>
              <a:t>How might the students act differently if the interactive strategies are taken out of the lesson?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274680"/>
            <a:ext cx="769608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a6363"/>
                </a:solidFill>
                <a:latin typeface="Gill Sans MT"/>
              </a:rPr>
              <a:t>Guided Practice – 20 minutes</a:t>
            </a:r>
            <a:br>
              <a:rPr sz="3500"/>
            </a:br>
            <a:r>
              <a:rPr b="0" lang="en-US" sz="2900" spc="-1" strike="noStrike">
                <a:solidFill>
                  <a:srgbClr val="ff0000"/>
                </a:solidFill>
                <a:latin typeface="Arial"/>
              </a:rPr>
              <a:t>Principals and administrators will coach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90720" y="2133360"/>
            <a:ext cx="76960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sider Wendy’s lesson and the ICC mod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velop a lesson plan using the same templa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ork individuall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Welcome!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t lunch and settle i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view your notes/line of learning from past session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standing by design/Backward desig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ear learning targe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t computer ready  for map and tal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Know how to access Wik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0" lang="en-US" sz="3500" spc="-1" strike="noStrike">
                <a:solidFill>
                  <a:srgbClr val="6a6363"/>
                </a:solidFill>
                <a:latin typeface="Gill Sans MT"/>
              </a:rPr>
              <a:t>             </a:t>
            </a:r>
            <a:r>
              <a:rPr b="0" lang="en-US" sz="3500" spc="-1" strike="noStrike">
                <a:solidFill>
                  <a:srgbClr val="6a6363"/>
                </a:solidFill>
                <a:latin typeface="Gill Sans MT"/>
              </a:rPr>
              <a:t>Peer Coaching</a:t>
            </a:r>
            <a:br>
              <a:rPr sz="3500"/>
            </a:br>
            <a:br>
              <a:rPr sz="3500"/>
            </a:br>
            <a:r>
              <a:rPr b="0" lang="en-US" sz="3200" spc="-1" strike="noStrike">
                <a:solidFill>
                  <a:srgbClr val="6a6363"/>
                </a:solidFill>
                <a:latin typeface="Gill Sans MT"/>
              </a:rPr>
              <a:t>Read each other’s lesson first, then provid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specific feedback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at is aligned with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the LO of today’s session</a:t>
            </a:r>
            <a:endParaRPr b="0" lang="en-US" sz="32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600" y="2743200"/>
            <a:ext cx="6108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Two star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One stretch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Curriculum Planning Tool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the too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 you pl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fter you tea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ile you collabor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you conference with your principal or ment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Reciprocity - Expectations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fore next workshop (January 15)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pdate your map as you plan, revise or dialogue, applying UB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uild scaffolded lessons toward the big idea and skills on the ma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uild interactions and CFU throughout the less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Reciprocity - Support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ork on the map and lesson with your PP and Mento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ference with your principal regarding  your map and less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iki –what interactive strategies (including CFU), did you use to keep students cognitively engaged and challenged -  minimum one entry or respons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2640" y="1219320"/>
            <a:ext cx="749772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Line of Learning </a:t>
            </a:r>
            <a:br>
              <a:rPr sz="4300"/>
            </a:b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and Feedback</a:t>
            </a:r>
            <a:br>
              <a:rPr sz="4300"/>
            </a:b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on </a:t>
            </a:r>
            <a:r>
              <a:rPr b="0" lang="en-US" sz="4300" spc="-1" strike="noStrike" u="sng">
                <a:solidFill>
                  <a:srgbClr val="cc9900"/>
                </a:solidFill>
                <a:uFillTx/>
                <a:latin typeface="Gill Sans MT"/>
                <a:hlinkClick r:id="rId1"/>
              </a:rPr>
              <a:t>New Teacher Wiki</a:t>
            </a:r>
            <a:br>
              <a:rPr sz="4300"/>
            </a:b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Next New Teacher Workshop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January 15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cus: Think Aloud and all previous learn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id year assess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eacher self-ass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incipal observation, coaching and feedbac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6a6363"/>
                </a:solidFill>
                <a:latin typeface="Gill Sans MT"/>
              </a:rPr>
              <a:t>Assessment focuses – </a:t>
            </a:r>
            <a:r>
              <a:rPr b="0" lang="en-US" sz="3600" spc="-1" strike="noStrike">
                <a:solidFill>
                  <a:srgbClr val="6a6363"/>
                </a:solidFill>
                <a:latin typeface="Gill Sans MT"/>
              </a:rPr>
              <a:t>implementation of the following…</a:t>
            </a:r>
            <a:endParaRPr b="0" lang="en-US" sz="36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pply backward design in unit planning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Evidence of scaffolding in maps (expanded skills) and lesson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Link learning objectives to map content and skill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Design EDI lesson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Embed interactive strategies to cognitively engage students in learning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Planned CFU (before, during and after each lesson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What was helpful?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Examples of scaffolding in maps and lesson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lear and explicit model of UBD and LO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Professional level discussion with peers on unit/lesso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nteract with others across the district to see how ideas are used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Plan with job-alike peers on real units/lesson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eeing real lessons and maps helps to put all pieces together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6a6363"/>
                </a:solidFill>
                <a:latin typeface="Gill Sans MT"/>
              </a:rPr>
              <a:t>Impact on your teaching and planning</a:t>
            </a:r>
            <a:endParaRPr b="0" lang="en-US" sz="39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ook toward my culminating outcome before I write my lesson objectiv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ink LO and skills in my ma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corporate mo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plann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CFU’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ctivities are important in my lessons but skills in maps are about what students will b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ble to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Gill Sans MT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ikis – I see how they can be used in my classroo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How to support you?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bserve my lessons and give me targeted feedbac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tinue to have new teacher workshop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6a6363"/>
                </a:solidFill>
                <a:latin typeface="Gill Sans MT"/>
              </a:rPr>
              <a:t>We asked you to work with your principal on…</a:t>
            </a:r>
            <a:endParaRPr b="0" lang="en-US" sz="39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y next workshop - Be prepared to bring a unit (map) and a lesson using the unit/lesson design templa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UBD/EDI concept reflected in plann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Expanded skill statements in map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Clear learning objectives/targets in lesson pl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 MT"/>
              </a:rPr>
              <a:t>Planned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CFU before, during and after instru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Debriefing Partners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one you don’t work wit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one you don’t know wel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nd partner 1 and 2, including administrator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ay with partner 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e to front if you are still search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a6363"/>
                </a:solidFill>
                <a:latin typeface="Arial"/>
              </a:rPr>
              <a:t>MAP and TALK </a:t>
            </a:r>
            <a:r>
              <a:rPr b="0" lang="en-US" sz="4000" spc="-1" strike="noStrike">
                <a:solidFill>
                  <a:srgbClr val="6a6363"/>
                </a:solidFill>
                <a:latin typeface="Arial"/>
              </a:rPr>
              <a:t>(with partner 2)</a:t>
            </a:r>
            <a:endParaRPr b="0" lang="en-US" sz="40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did you apply Understanding by Design in your map? (Share one essential question with your partne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did you build scaffolding (Expanded Skills) in your ma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 ready to shar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your partner’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amples or insigh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Objectives of the Day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rticulat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rationale of UB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Link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esson objectives with skills in map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esig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units and lessons aligned with UBD, clear targets, engagement strategeis and scaffolding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mb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effective interactive strategies in lessons/maps (Include Planned CFU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1:20:39Z</dcterms:created>
  <dc:creator>ychen</dc:creator>
  <dc:description/>
  <dc:language>en-US</dc:language>
  <cp:lastModifiedBy>ychen</cp:lastModifiedBy>
  <dcterms:modified xsi:type="dcterms:W3CDTF">2009-12-04T23:35:51Z</dcterms:modified>
  <cp:revision>71</cp:revision>
  <dc:subject/>
  <dc:title>New Teacher Learning Series</dc:title>
</cp:coreProperties>
</file>